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532-0FD2-457C-B8EE-D79F0D0C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077-C291-4EDE-9A97-E11E35DC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73E-F9E5-4112-B961-FE05F3C4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596-D726-4869-8169-FF1851DD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4EB9-D28E-4260-A1A7-3E1A1A26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6F52-F626-4144-9102-FFE03F54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7162-C0E2-4DFA-B1EE-EDA78BC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FA1-DF71-40AC-B021-6D932A3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60DC-803F-44AF-BAFA-5DC6BFA4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5240-0E17-49A2-9BDF-DF782113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0956-F17E-4E66-8F2C-C2B2527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697-571A-43AC-AF26-E088D8F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EEED-9ED4-431E-970C-C92F17D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C1F3-4E96-41C8-89F3-B19ACFD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685B-7920-4C48-BC70-C33F04E5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A8B-2003-4B28-AA43-F23CECCD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0CB-ACF4-436A-9249-31C30EC7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2D5-5C60-4B91-AA13-CD678B94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8EC-E531-4FD1-84A3-845742C5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BAC-4E05-4598-B5C9-FE8CF89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06C-6318-43C0-8325-05124D3F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095-4EB7-459D-8EFB-FFBD7AFF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5A9-703A-4DA6-9651-637584B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09D-3D05-4835-9170-7A9733D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A0BE-6A30-4839-B09A-092C4A47AA6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479-3F4C-4867-8936-09C3327D042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:/DOCUME~1/Family/LOCALS~1/Bourneside/pd1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:/DOCUME~1/Family/LOCALS~1/Bourneside/pd1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341360"/>
            <a:ext cx="914400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Teaching and learning – the journ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003640" y="765000"/>
            <a:ext cx="91440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Weaknesses in conventional teaching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692280"/>
            <a:ext cx="874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o much teacher expla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1125360"/>
            <a:ext cx="669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sed questions dom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628640"/>
            <a:ext cx="597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s 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060640"/>
            <a:ext cx="7489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ufficient attention on developing a secure 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00000" y="2492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o much repetition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913120"/>
            <a:ext cx="867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pils are insufficiently aware of the goals for the teaching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3357720"/>
            <a:ext cx="7954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pils are mainly receivers of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971640" y="371628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ufficient time for pupils to develop their 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4149720"/>
            <a:ext cx="867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pils lack confidence - they feel they will not achieve their go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057400" y="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44360" y="112536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Passive learn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1280" y="2205000"/>
            <a:ext cx="81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Over-dependence on the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360" y="328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 Unicode MS"/>
              </a:rPr>
              <a:t>Limited personal involvement in their own learning and prog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-36360" y="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951520" y="-2700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ed vie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6"/>
          <p:cNvGrpSpPr/>
          <p:nvPr/>
        </p:nvGrpSpPr>
        <p:grpSpPr>
          <a:xfrm>
            <a:off x="179280" y="907920"/>
            <a:ext cx="2600280" cy="5600880"/>
            <a:chOff x="179280" y="907920"/>
            <a:chExt cx="2600280" cy="5600880"/>
          </a:xfrm>
        </p:grpSpPr>
        <p:sp>
          <p:nvSpPr>
            <p:cNvPr id="117" name="Text Box 7"/>
            <p:cNvSpPr/>
            <p:nvPr/>
          </p:nvSpPr>
          <p:spPr>
            <a:xfrm>
              <a:off x="188640" y="907920"/>
              <a:ext cx="2590920" cy="10674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 given body of knowledge and standard procedures that has to be ‘covered’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179280" y="2365200"/>
              <a:ext cx="2590920" cy="10674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n individual activity based on watching, listening and imitating so fluency is attain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183960" y="3727080"/>
              <a:ext cx="2590920" cy="27817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Structuring a linear curriculum for learn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Giving explanations before problems. Checking that these have been understood through practice exerci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Correcting misunderstan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17"/>
          <p:cNvGrpSpPr/>
          <p:nvPr/>
        </p:nvGrpSpPr>
        <p:grpSpPr>
          <a:xfrm>
            <a:off x="6084720" y="981000"/>
            <a:ext cx="2820960" cy="5472720"/>
            <a:chOff x="6084720" y="981000"/>
            <a:chExt cx="2820960" cy="5472720"/>
          </a:xfrm>
        </p:grpSpPr>
        <p:sp>
          <p:nvSpPr>
            <p:cNvPr id="121" name="Text Box 10"/>
            <p:cNvSpPr/>
            <p:nvPr/>
          </p:nvSpPr>
          <p:spPr>
            <a:xfrm>
              <a:off x="6084720" y="981000"/>
              <a:ext cx="2805480" cy="82404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n interconnected body of ideas and reasoning proces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094800" y="2219400"/>
              <a:ext cx="2805840" cy="13107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A collaborative activity in which learners are challenged and arrive at understanding through discu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6099840" y="3672000"/>
              <a:ext cx="2805840" cy="27817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Exploring meaning and connections through non-linear dialogue between teachers and learn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Presenting problems before offering explanati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Making misunderstandings explicit and learning from th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14"/>
          <p:cNvGrpSpPr/>
          <p:nvPr/>
        </p:nvGrpSpPr>
        <p:grpSpPr>
          <a:xfrm>
            <a:off x="3219480" y="866880"/>
            <a:ext cx="2468160" cy="5645160"/>
            <a:chOff x="3219480" y="866880"/>
            <a:chExt cx="2468160" cy="5645160"/>
          </a:xfrm>
        </p:grpSpPr>
        <p:sp>
          <p:nvSpPr>
            <p:cNvPr id="125" name="AutoShape 2"/>
            <p:cNvSpPr/>
            <p:nvPr/>
          </p:nvSpPr>
          <p:spPr>
            <a:xfrm>
              <a:off x="3219480" y="866880"/>
              <a:ext cx="2439360" cy="1295280"/>
            </a:xfrm>
            <a:custGeom>
              <a:avLst/>
              <a:gdLst>
                <a:gd name="textAreaLeft" fmla="*/ 609840 w 2439360"/>
                <a:gd name="textAreaRight" fmla="*/ 1829520 w 243936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athematics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3224160" y="2390760"/>
              <a:ext cx="2439360" cy="1295280"/>
            </a:xfrm>
            <a:custGeom>
              <a:avLst/>
              <a:gdLst>
                <a:gd name="textAreaLeft" fmla="*/ 609840 w 2439360"/>
                <a:gd name="textAreaRight" fmla="*/ 1829520 w 243936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earn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4"/>
            <p:cNvSpPr/>
            <p:nvPr/>
          </p:nvSpPr>
          <p:spPr>
            <a:xfrm>
              <a:off x="3247920" y="4643280"/>
              <a:ext cx="2439720" cy="1295640"/>
            </a:xfrm>
            <a:custGeom>
              <a:avLst/>
              <a:gdLst>
                <a:gd name="textAreaLeft" fmla="*/ 609840 w 2439720"/>
                <a:gd name="textAreaRight" fmla="*/ 1829880 w 24397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ffffcc"/>
                  </a:solidFill>
                  <a:uFillTx/>
                  <a:latin typeface="Arial"/>
                  <a:hlinkClick r:id="rId1"/>
                </a:rPr>
                <a:t>Teach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3433680" y="6267600"/>
              <a:ext cx="2058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0" y="9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ssive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168960" y="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ed vie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3219480" y="866880"/>
            <a:ext cx="2495520" cy="5645160"/>
            <a:chOff x="3219480" y="866880"/>
            <a:chExt cx="2495520" cy="5645160"/>
          </a:xfrm>
        </p:grpSpPr>
        <p:sp>
          <p:nvSpPr>
            <p:cNvPr id="132" name="AutoShape 2"/>
            <p:cNvSpPr/>
            <p:nvPr/>
          </p:nvSpPr>
          <p:spPr>
            <a:xfrm>
              <a:off x="3219480" y="866880"/>
              <a:ext cx="2438280" cy="1295280"/>
            </a:xfrm>
            <a:custGeom>
              <a:avLst/>
              <a:gdLst>
                <a:gd name="textAreaLeft" fmla="*/ 609480 w 2438280"/>
                <a:gd name="textAreaRight" fmla="*/ 1828800 w 243828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athematics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3"/>
            <p:cNvSpPr/>
            <p:nvPr/>
          </p:nvSpPr>
          <p:spPr>
            <a:xfrm>
              <a:off x="3276720" y="2743200"/>
              <a:ext cx="2438280" cy="1295280"/>
            </a:xfrm>
            <a:custGeom>
              <a:avLst/>
              <a:gdLst>
                <a:gd name="textAreaLeft" fmla="*/ 609480 w 2438280"/>
                <a:gd name="textAreaRight" fmla="*/ 1828800 w 243828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earn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4"/>
            <p:cNvSpPr/>
            <p:nvPr/>
          </p:nvSpPr>
          <p:spPr>
            <a:xfrm>
              <a:off x="3247920" y="4643280"/>
              <a:ext cx="2438640" cy="1295640"/>
            </a:xfrm>
            <a:custGeom>
              <a:avLst/>
              <a:gdLst>
                <a:gd name="textAreaLeft" fmla="*/ 609480 w 2438640"/>
                <a:gd name="textAreaRight" fmla="*/ 1829160 w 243864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ffffcc"/>
                  </a:solidFill>
                  <a:uFillTx/>
                  <a:latin typeface="Arial"/>
                  <a:hlinkClick r:id="rId1"/>
                </a:rPr>
                <a:t>Teaching is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3433680" y="6267600"/>
              <a:ext cx="2057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Text Box 8"/>
          <p:cNvSpPr/>
          <p:nvPr/>
        </p:nvSpPr>
        <p:spPr>
          <a:xfrm>
            <a:off x="0" y="1778040"/>
            <a:ext cx="32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MATHS IS DONE </a:t>
            </a:r>
            <a:r>
              <a:rPr b="0" i="1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TO </a:t>
            </a: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THE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791320" y="1905120"/>
            <a:ext cx="3352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MATHS IS DONE </a:t>
            </a:r>
            <a:r>
              <a:rPr b="0" i="1" lang="en-GB" sz="4400" spc="-1" strike="noStrike" u="sng">
                <a:solidFill>
                  <a:srgbClr val="ffffff"/>
                </a:solidFill>
                <a:uFillTx/>
                <a:latin typeface="Arial"/>
              </a:rPr>
              <a:t>BY</a:t>
            </a: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 THE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Arial"/>
              </a:rPr>
              <a:t>Principles for effective teach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ild on knowledge learners bring to th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ose and discuss common miscon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 effective ques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cooperative small group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mphasise methods rather than ans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Use rich collaborative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eate connections between mathematical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technology in appropriate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238880" y="5486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280"/>
            <a:ext cx="78487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What kind of mathematical thinking did they engage i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What did they talk abou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What are the advantages of this kind of approach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How does this kind of activity engage pupil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0:04:41Z</dcterms:created>
  <dc:creator>Phil Turner</dc:creator>
  <dc:description/>
  <dc:language>en-US</dc:language>
  <cp:lastModifiedBy>MARTIN WHITTLE</cp:lastModifiedBy>
  <dcterms:modified xsi:type="dcterms:W3CDTF">2010-01-05T16:06:20Z</dcterms:modified>
  <cp:revision>104</cp:revision>
  <dc:subject/>
  <dc:title>PowerPoint Presentation</dc:title>
</cp:coreProperties>
</file>